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C9F-FC7F-48A8-AA64-ADDC3269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1BA-AB6E-4E63-A2F3-75FB9EE3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165-2E82-425B-A031-B488EAA9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D8F-D516-4955-8880-D8595CE1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F1D4-0C75-4FDA-99B2-8C74F564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F925-41F3-42E2-BA2F-C493DE1B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0FF3-195F-42FD-8AD5-E030CDED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18A6-62B4-4538-AFFC-2AD0E8A3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B1CC-A967-48C2-ABCF-3AA0F4A8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52C3-E618-461D-8B1A-BC8E0878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A599-A268-4B73-8510-2B9A6184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821-F7F2-4D24-9F2C-1813B7DF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849B-79D0-422F-990A-72791F09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9627-22B6-4C6F-AA2A-A8F51808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56A7-A790-4C08-9CDE-83A6FE27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E503-2BAC-4B86-81C5-7D864A2D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ED78-EFAC-4CBF-9F37-C0345A8B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FA1-7AE0-4C0A-9AD8-EA15966E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F10E-21D1-41B9-9310-7E4CF95A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0C12-C17D-486A-A40C-D00ACA2D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CC3-74F5-4C2F-93CF-0682B81E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528-6F8E-4138-BBF5-9D1C9637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F0F-2446-4EF9-B534-DC21A7E3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4E7-7934-4195-9B4F-FCDE9D0D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4B9F-245A-42CC-A129-9F80D8711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3703-0816-47CA-807B-1D790F0B9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Ratio Analysi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3962160"/>
            <a:ext cx="69343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Ratio Comparis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Users of Rat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Ratio Catego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ospitality Management Accoun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Ratio Comparison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Ratios are used to help the firm to evaluate its financial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Comparison with the indu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Company ratios alone are meaningless. They have t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to similar busin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d to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industry aver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Comparison with previous periods of the same establish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Comparison with standa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ake into consideration bo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and external fact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spitality Management Accoun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Users of Ratio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o monitor the performance against the budg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o measure the effectiveness of the fi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Cr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atios indicate how safe their loans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ssessment of the risk about future lo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Ow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atios show the riskiness of their inves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ssessment of the future successful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spitality Management Accoun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Ratio Categories (1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Current liquidity rat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Current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Current assets ÷ Current li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Quick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(Current assets – Inventory) ÷ Current Li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ccounts Receivable Rat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A/R as a Percentage of Reven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(Average A/R ÷ Total revenue) ×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A/R Average Collection Period in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(Average A/R ÷ Credit revenue) × 365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ccounts Payable Average Payment Period in D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(Average A/P ÷ Credit purchases) × 365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spitality Management Accoun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Ratio Categories (2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Long-term Solvency Rat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otal Assets to Total Li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Total assets ÷ Total li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Long-term Liabilities to Total Eq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Long-term liabilities ÷ Stockholders’ Eq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Number of Times Interest 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Income before Interest and Income 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divid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Interest exp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spitality Management Accoun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Ratio Categories (3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Profitability Rat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Gross Return on As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Income before Interest and Tax ÷ Total av. as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Net Return on As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Net Income after Tax ÷ Total average as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Net Income to Reven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Net Income after Tax ÷ Reven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eturn on Stockholders’ Equ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Net Income after Tax ÷ Av. Stockholders’ Equ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arnings per Sh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Net Income after Tax ÷ Av. No. of shares s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rice Earnings Eq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arket Price per Share ÷ Earnings per Sh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spitality Management Accoun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Ratio Categories (4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Turnover Rat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Inventory Turno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Cost of Sales ÷ Average Inven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Fixed Asset Turno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Revenue ÷ Total Average Fixed As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spitality Management Accoun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0"/>
            <a:ext cx="8440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Ratio Categories (5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Operating Rat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Food and/or Beverage Cost Percen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Labor Cost Percen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Revenue per Employee per meal period or per day, week, mon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Number of Guests served per Employee per meal period or per day, week, mon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Average Food and/or Beverage check by meal period and by Revenu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Seat Turnover by meal period or by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Revenue per Seat Availab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spitality Management Accoun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Ratio Categories (6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Operating Ratios (co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ercentage of Beverage Revenue to Food Reven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ercentage of Beverage Revenue and/or Food Revenue to Rooms Reven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verage Room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evenue per night ÷ No.of occupied roo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ccupancy Percen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ooms used in a period ÷ Room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Double Occupancy Percen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Rooms used by more persons ÷ Rooms occup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Double Occupancy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Number of Guests ÷ Number of Occupied Roo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spitality Management Accoun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15:59:13Z</dcterms:created>
  <dc:creator>István</dc:creator>
  <dc:description/>
  <dc:language>en-US</dc:language>
  <cp:lastModifiedBy>ME</cp:lastModifiedBy>
  <dcterms:modified xsi:type="dcterms:W3CDTF">2004-09-05T09:54:06Z</dcterms:modified>
  <cp:revision>13</cp:revision>
  <dc:subject/>
  <dc:title>Ratio Analysis</dc:title>
</cp:coreProperties>
</file>